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22F-F0B6-4376-A65A-DB180F89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CAC-A4B7-4A40-978E-7DEC40F7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B01-E0A9-4415-9E19-183DC179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60A-2C3F-4454-ACCD-B59FB402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300-30A1-44F4-AF56-3B64247B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614-C543-46EA-9919-21D77D93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1D7-56A3-4C35-B1C3-0EB587FE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950-AFBA-42E0-AED4-FE5780D6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6B9-F414-4FED-8A98-784DAB3D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E71-66F2-43BD-AEBB-02B1EEF4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945-CA5B-458C-AEB1-30B84D2A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9A3-052F-47DA-8706-2F8F790C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B17D-67D9-432F-9EBD-FA0B50148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34920" y="1338120"/>
          <a:ext cx="7272360" cy="417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1338120"/>
                    <a:ext cx="727236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3:30:52Z</dcterms:created>
  <dc:creator>Mª José</dc:creator>
  <dc:description/>
  <dc:language>en-US</dc:language>
  <cp:lastModifiedBy>Mª José</cp:lastModifiedBy>
  <dcterms:modified xsi:type="dcterms:W3CDTF">2009-05-08T13:32:45Z</dcterms:modified>
  <cp:revision>1</cp:revision>
  <dc:subject/>
  <dc:title>Diapositiva 1</dc:title>
</cp:coreProperties>
</file>